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1C4-4243-4D3B-9344-D24E6845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3E3-EA41-499D-B13B-7DC4CDDE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619-A147-4B2B-B0E5-13B987F2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15E-33F1-47BD-97F6-CA78BFCA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49F-A264-4248-947B-0F0C3426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46E2-14B0-4F3D-BB7E-5915993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3AE5-B24A-4B9E-A777-09AA9A6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864D-0F5E-40AF-8AA4-D561E6BE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6800-5C65-4F41-94EA-029A9983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6A2A-EC76-4C8C-8069-67C7521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D13D-0471-4C86-984C-B7425FA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188-A3B7-4805-ADC4-CEEB28F6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497B-4C8A-4AD6-A830-05A6C78D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D88-D24B-4B71-BD6D-3E0876B3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214-653F-482F-81C6-AA76A04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4D72-C8F2-446B-A7B7-58A12C18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268C-5EB6-4CEF-9B4C-BDF83AB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0FB-8D53-4BBA-B66D-5F246881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0EB-5CBD-42AB-996D-F40D803E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B18-7640-4C7B-B7F0-E5CC905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FB3-59EA-4827-B366-AB64B14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079-4C2D-41E3-B627-5D632BA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416-0723-44A3-B85A-1ED4336F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DD3-FC80-480E-A1A6-9F19D35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AA3D-9F0F-47A8-8B0B-FA5E112F45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E9CA-F674-4927-9732-41A43B70DF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Use for Stu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computer to talk to your friends is cool.  Exploring Web sites makes school work more fu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as there are rules in your classroom, in the Science lab, at home, and for crossing the street safely, there are rules for using computers, programs and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support the educational goals and objectives of RRIS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educationally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supervised by adults at all ti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not type their own or others’ name, address, phone number or other personal information into any place on th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contribute to class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use teacher- designed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acher-selected web pages with staff supervision-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 mean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P-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 to the matrix with specific guidelines for student use of the Internet found posted in the la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teacher also has a copy and will be carefully monitoring the content produc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with your ITS or Librarian if there ar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nsure all information is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evan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i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should get facts, not opinions or propaganda (unless your directions specifically ask for thes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achers can assist students in accessing appropriate information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may also build their own curriculum-related web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 the abundance of new social media tools available to student:                                            wikis and blogs, student products. and documents have the potential to reach an audience far beyond the classro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should request help in evaluating the credibility of the information and recognizing inappropriate cont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brings new levels of responsibility and accountability for every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37160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Superv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admin</cp:lastModifiedBy>
  <dcterms:modified xsi:type="dcterms:W3CDTF">2008-09-02T01:15:28Z</dcterms:modified>
  <cp:revision>21</cp:revision>
  <dc:subject/>
  <dc:title>Student Internet Use</dc:title>
</cp:coreProperties>
</file>